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900-C176-4E55-9D14-E2C68A4D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D7D-A00A-4435-9D83-A72804E9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599-0237-478A-B3B5-B1ED9FF1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729-CC0F-4829-80EA-0B499AC9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6E71-2117-44BE-A1D2-48A56A39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8E98-3C40-4426-B21C-CE2DBD66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F7CE-D76D-4790-8EC7-75CCF494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61F6-3817-4F0C-86A0-02D2663D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FDBF-4605-48C8-B056-2C3C52DE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6B17-AAB9-484C-82C2-D7BCB4C3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97FE-7CC7-42AC-BEA7-274F9588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A96-B022-4155-9173-595E6A08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0B2D-839D-4DE3-90B5-5DB0AF04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177F-C430-4E05-BED0-842EFEA8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B9F3-307C-415E-8953-76D0B4E8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1317-202D-4353-9683-16CD059F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4491-C4B7-47BF-AAF7-8DE3BEA7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88DA-8315-44C1-B2B1-15D1B918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926FC-2407-464A-8A64-3F6EC541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FBEC4-DF76-47D4-80C8-A41E1C69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4FA7B-687E-423D-BB51-E73B9417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74D2B-8F52-4F95-A970-6AF758A7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5DE8-A238-40DF-AABF-0F1BA48D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FAFA6-C62C-4577-84F9-B69EA621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E64C1-D077-4512-9A91-0F5F3725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F72A-CC4E-44A2-B9EB-F897396C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E8F44-991D-4443-BD24-27A2270B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9C2ED-89DE-4477-93D9-F68F23E7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FA171-FF01-4A2D-97C3-74C78FD5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92509-09CF-4BF2-A397-E6BB542B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2FDE8-4CDF-4FD3-B09D-7E8BAF63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509D0-9ED7-4D97-B372-1BD8EC98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8503C-0D23-43AD-91C8-F2D5450F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C07-93BB-4102-BC48-C3185C93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54D66-952F-48E4-9B74-7DC953CC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C1601-8790-41DB-A650-97E110C5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56DDA-C19D-4A3C-846E-1853708C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8764B-D98B-482E-95E0-B4BD275B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9D25-387F-4B64-B862-A5F87E2A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67415-8962-445E-B589-D6A7B3B1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12186-2E4E-4E38-9A68-95FD0F9C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A980C-EF32-488E-A740-C18A9E30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F2A7E-30CF-4449-AB9C-A51BBB86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5442E-FE62-4CE8-BEFC-C9A5793B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F16-C7B8-4A9D-9357-0011C0B5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348A8-B41B-47DD-B02F-79588B4D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39542-6591-4165-A8CB-54ECB3C2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DBDD9-E350-4124-962E-EB183D01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01AB2-E904-4D6F-B57E-187E1704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DB024-C571-456E-A4D4-57399934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0E7CC-A202-4A1C-8463-38A293BA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69A79-0CE5-4A33-8FE9-03412F54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AA41C-0630-4DC6-BCED-7835C637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E2259-EC4A-4255-BACE-0A5DC2B0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CF625-9B9D-4462-88A3-935CB956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748-133E-4EA7-9A75-0BA016FD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49183-FB26-4279-998F-E656F340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7508A-746E-4B10-B64D-80DE1381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B24DD-60B5-4CCB-8C19-5EC121CE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38882-9190-4EF4-932D-1DAF0942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762A9-0FC2-45B8-9514-38502BEC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60FA7-13CE-4174-BB79-983733AF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3B519-D564-4F54-A32D-5A6F3B66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85B6B-CC7F-4552-A852-1B47C979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49286-A2B1-4048-90DC-47B407E7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43A6A-0FE0-441A-A97D-4DC38C23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62F-421C-4558-9D4F-DB0A56A3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F4690-F51A-4158-A879-077F82E8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410C2-EBA8-43A3-9D35-F7DCEBBB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8ECCE-3057-40FB-9DF5-E41B9A69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F1C-7565-41EC-A5E9-A374C055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B03-A520-400C-AE00-5ADE96CA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未知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7A2B-39B5-4396-960E-757384AEB3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未知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18960" y="3773520"/>
              <a:ext cx="548496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838080" y="1752480"/>
              <a:ext cx="77691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18960" y="3773520"/>
              <a:ext cx="4752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838080" y="1752480"/>
              <a:ext cx="46080" cy="5119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3ED9-D23A-416E-9C0C-E03595AE2B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B2E2-E8DC-44C4-8E88-83E5E48F4BD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678F-4889-41EF-93C0-9E4016119E9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8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1093-BD63-4948-B9E2-C93B61A8E6F4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4B37-C2E1-4A09-9A59-56712429BCB6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" Target="slide1.xml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459040" y="1295280"/>
            <a:ext cx="2618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Arial"/>
                <a:ea typeface="华文隶书"/>
              </a:rPr>
              <a:t>音乐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华文行楷"/>
              </a:rPr>
              <a:t>之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华文隶书"/>
              </a:rPr>
              <a:t>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Music"/>
          <p:cNvSpPr/>
          <p:nvPr/>
        </p:nvSpPr>
        <p:spPr>
          <a:xfrm rot="20116800">
            <a:off x="4087800" y="1372680"/>
            <a:ext cx="1523880" cy="1235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Music"/>
          <p:cNvSpPr/>
          <p:nvPr/>
        </p:nvSpPr>
        <p:spPr>
          <a:xfrm rot="2023800">
            <a:off x="2000160" y="1817280"/>
            <a:ext cx="1524240" cy="1371600"/>
          </a:xfrm>
          <a:prstGeom prst="pie">
            <a:avLst/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Music"/>
          <p:cNvSpPr/>
          <p:nvPr/>
        </p:nvSpPr>
        <p:spPr>
          <a:xfrm rot="21013800">
            <a:off x="3392640" y="3247920"/>
            <a:ext cx="1295280" cy="1143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Music"/>
          <p:cNvSpPr/>
          <p:nvPr/>
        </p:nvSpPr>
        <p:spPr>
          <a:xfrm rot="20116800">
            <a:off x="630000" y="934560"/>
            <a:ext cx="1358640" cy="13114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5486400"/>
            <a:ext cx="167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节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5791320"/>
            <a:ext cx="3733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勒曼，美国剧作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洪湖市新滩中学  张宽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Music"/>
          <p:cNvSpPr/>
          <p:nvPr/>
        </p:nvSpPr>
        <p:spPr>
          <a:xfrm rot="540000">
            <a:off x="533520" y="3200040"/>
            <a:ext cx="1828800" cy="16002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Music"/>
          <p:cNvSpPr/>
          <p:nvPr/>
        </p:nvSpPr>
        <p:spPr>
          <a:xfrm rot="763200">
            <a:off x="4398480" y="3908520"/>
            <a:ext cx="2057400" cy="1752480"/>
          </a:xfrm>
          <a:prstGeom prst="pi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75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2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5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5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25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75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073240" y="304920"/>
            <a:ext cx="549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通过众人之口来表现玛丽亚这个人物的形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这种描写的角度是什么？这样写的好处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10880" y="158112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答：侧面描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能使玛丽亚这个形象塑造得更加血肉丰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25160" y="324180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从选文中另外选择一个人，用简洁的语言概括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的性格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54200" y="4400640"/>
            <a:ext cx="5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贝尔塔：性格固执，对玛丽亚一直报有偏见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只看见玛丽亚的不足，看不见她的优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17080" y="6442200"/>
            <a:ext cx="755640" cy="371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 rot="10800000">
            <a:off x="610920" y="620280"/>
            <a:ext cx="1873080" cy="1159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609480" y="228600"/>
            <a:ext cx="57294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快读课文</a:t>
            </a: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,</a:t>
            </a: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感受人物形象。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219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、 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读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课文第二个场景众修女七嘴八舌评说玛丽亚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的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唱段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，请概括众人的意见，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综合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说说众人眼中的玛丽亚是个怎样的人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124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在众嬷嬷眼中，玛丽亚天性活泼，热爱歌唱，不守常规，无拘无束；纯真欢快，自由自在；她自己快乐，也总是给别人带来快乐；她十分可爱又让人头痛。玛丽亚自由活泼的性格，与修道院的环境和要求极不协调，因此她们认为她不适合当修女。她们对玛丽亚非常喜爱而又无所适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>
            <a:lum bright="30000"/>
          </a:blip>
          <a:srcRect l="0" t="0" r="0" b="24946"/>
          <a:stretch/>
        </p:blipFill>
        <p:spPr>
          <a:xfrm>
            <a:off x="152280" y="22860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400800"/>
            <a:ext cx="684360" cy="3747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9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0" y="10508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、课文临近结尾处写玛丽亚回到修道院的情形。请仔细阅读该文段</a:t>
            </a:r>
            <a:r>
              <a:rPr b="1" lang="en-US" sz="4000" spc="-1" strike="noStrike">
                <a:solidFill>
                  <a:srgbClr val="000099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猜想一下她当时的神态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670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玛丽亚闯进来时一连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匆忙、慌张、快捷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动作。在众目睽睽之下，她的表情由羞愧转为无奈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373120" y="533520"/>
            <a:ext cx="495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读完全问后，你认为课文是怎样体现音乐故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片的特色的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837440" y="3938760"/>
            <a:ext cx="509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以歌唱的方式，来塑造人物。无论是玛丽亚的内心独白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还是众麽麽对白，都用歌唱的方式来表现，这二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都体现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行楷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音乐之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行楷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的音乐故事片的特色。</a:t>
            </a:r>
            <a:r>
              <a:rPr b="1" lang="zh-CN" sz="2800" spc="-1" strike="noStrike">
                <a:solidFill>
                  <a:srgbClr val="00ff99"/>
                </a:solidFill>
                <a:latin typeface="Arial"/>
                <a:ea typeface="华文行楷"/>
              </a:rPr>
              <a:t>音乐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784836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  <a:ea typeface="隶书"/>
              </a:rPr>
              <a:t>4</a:t>
            </a:r>
            <a:r>
              <a:rPr b="0" lang="zh-CN" sz="4300" spc="-1" strike="noStrike">
                <a:solidFill>
                  <a:srgbClr val="000000"/>
                </a:solidFill>
                <a:latin typeface="Verdana"/>
                <a:ea typeface="隶书"/>
              </a:rPr>
              <a:t>、找出本文的正面描写和侧面描写，并体会其作用。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玛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亚在萨尔茨堡郊外纵情歌唱，快乐游玩→正面描写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修道院内，众人对玛利亚七嘴八舌地议论→侧面描写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玛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亚风风火火地闯进修道院→正面描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Verdana"/>
                <a:ea typeface="隶书"/>
              </a:rPr>
              <a:t>很好地体现了人物的性格特征。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23120" y="557280"/>
            <a:ext cx="838080" cy="838080"/>
          </a:xfrm>
          <a:custGeom>
            <a:avLst/>
            <a:gdLst>
              <a:gd name="textAreaLeft" fmla="*/ 308520 w 838080"/>
              <a:gd name="textAreaRight" fmla="*/ 529560 w 838080"/>
              <a:gd name="textAreaTop" fmla="*/ 308520 h 838080"/>
              <a:gd name="textAreaBottom" fmla="*/ 529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50" y="7950"/>
                </a:lnTo>
                <a:lnTo>
                  <a:pt x="10800" y="0"/>
                </a:lnTo>
                <a:lnTo>
                  <a:pt x="13650" y="7950"/>
                </a:lnTo>
                <a:lnTo>
                  <a:pt x="21600" y="10800"/>
                </a:lnTo>
                <a:lnTo>
                  <a:pt x="13650" y="13650"/>
                </a:lnTo>
                <a:lnTo>
                  <a:pt x="10800" y="21600"/>
                </a:lnTo>
                <a:lnTo>
                  <a:pt x="7950" y="1365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227240" y="-50760"/>
            <a:ext cx="761760" cy="912600"/>
          </a:xfrm>
          <a:custGeom>
            <a:avLst/>
            <a:gdLst>
              <a:gd name="textAreaLeft" fmla="*/ 313920 w 761760"/>
              <a:gd name="textAreaRight" fmla="*/ 447840 w 761760"/>
              <a:gd name="textAreaTop" fmla="*/ 375840 h 912600"/>
              <a:gd name="textAreaBottom" fmla="*/ 536760 h 912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0200" y="861840"/>
            <a:ext cx="609840" cy="838440"/>
          </a:xfrm>
          <a:custGeom>
            <a:avLst/>
            <a:gdLst>
              <a:gd name="textAreaLeft" fmla="*/ 237960 w 609840"/>
              <a:gd name="textAreaRight" fmla="*/ 371880 w 609840"/>
              <a:gd name="textAreaTop" fmla="*/ 326880 h 838440"/>
              <a:gd name="textAreaBottom" fmla="*/ 51156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25" y="8425"/>
                </a:lnTo>
                <a:lnTo>
                  <a:pt x="10800" y="0"/>
                </a:lnTo>
                <a:lnTo>
                  <a:pt x="13175" y="8425"/>
                </a:lnTo>
                <a:lnTo>
                  <a:pt x="21600" y="10800"/>
                </a:lnTo>
                <a:lnTo>
                  <a:pt x="13175" y="13175"/>
                </a:lnTo>
                <a:lnTo>
                  <a:pt x="10800" y="21600"/>
                </a:lnTo>
                <a:lnTo>
                  <a:pt x="8425" y="1317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55840" y="785880"/>
            <a:ext cx="5715000" cy="57924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 rot="11746200">
            <a:off x="4600440" y="313920"/>
            <a:ext cx="611280" cy="617760"/>
          </a:xfrm>
          <a:custGeom>
            <a:avLst/>
            <a:gdLst>
              <a:gd name="textAreaLeft" fmla="*/ 225000 w 611280"/>
              <a:gd name="textAreaRight" fmla="*/ 386280 w 611280"/>
              <a:gd name="textAreaTop" fmla="*/ 227160 h 617760"/>
              <a:gd name="textAreaBottom" fmla="*/ 3906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50" y="7950"/>
                </a:lnTo>
                <a:lnTo>
                  <a:pt x="10800" y="0"/>
                </a:lnTo>
                <a:lnTo>
                  <a:pt x="13650" y="7950"/>
                </a:lnTo>
                <a:lnTo>
                  <a:pt x="21600" y="10800"/>
                </a:lnTo>
                <a:lnTo>
                  <a:pt x="13650" y="13650"/>
                </a:lnTo>
                <a:lnTo>
                  <a:pt x="10800" y="21600"/>
                </a:lnTo>
                <a:lnTo>
                  <a:pt x="7950" y="1365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1746200">
            <a:off x="8768880" y="-360"/>
            <a:ext cx="374760" cy="671400"/>
          </a:xfrm>
          <a:custGeom>
            <a:avLst/>
            <a:gdLst>
              <a:gd name="textAreaLeft" fmla="*/ 154440 w 374760"/>
              <a:gd name="textAreaRight" fmla="*/ 220320 w 374760"/>
              <a:gd name="textAreaTop" fmla="*/ 276480 h 671400"/>
              <a:gd name="textAreaBottom" fmla="*/ 394920 h 671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1746200">
            <a:off x="6878160" y="680400"/>
            <a:ext cx="306360" cy="617400"/>
          </a:xfrm>
          <a:custGeom>
            <a:avLst/>
            <a:gdLst>
              <a:gd name="textAreaLeft" fmla="*/ 119520 w 306360"/>
              <a:gd name="textAreaRight" fmla="*/ 186840 w 306360"/>
              <a:gd name="textAreaTop" fmla="*/ 240840 h 617400"/>
              <a:gd name="textAreaBottom" fmla="*/ 37656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25" y="8425"/>
                </a:lnTo>
                <a:lnTo>
                  <a:pt x="10800" y="0"/>
                </a:lnTo>
                <a:lnTo>
                  <a:pt x="13175" y="8425"/>
                </a:lnTo>
                <a:lnTo>
                  <a:pt x="21600" y="10800"/>
                </a:lnTo>
                <a:lnTo>
                  <a:pt x="13175" y="13175"/>
                </a:lnTo>
                <a:lnTo>
                  <a:pt x="10800" y="21600"/>
                </a:lnTo>
                <a:lnTo>
                  <a:pt x="8425" y="1317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1746200">
            <a:off x="4887360" y="593280"/>
            <a:ext cx="1858680" cy="5796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95640" y="115920"/>
            <a:ext cx="838080" cy="838080"/>
          </a:xfrm>
          <a:custGeom>
            <a:avLst/>
            <a:gdLst>
              <a:gd name="textAreaLeft" fmla="*/ 308520 w 838080"/>
              <a:gd name="textAreaRight" fmla="*/ 529560 w 838080"/>
              <a:gd name="textAreaTop" fmla="*/ 308520 h 838080"/>
              <a:gd name="textAreaBottom" fmla="*/ 529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50" y="7950"/>
                </a:lnTo>
                <a:lnTo>
                  <a:pt x="10800" y="0"/>
                </a:lnTo>
                <a:lnTo>
                  <a:pt x="13650" y="7950"/>
                </a:lnTo>
                <a:lnTo>
                  <a:pt x="21600" y="10800"/>
                </a:lnTo>
                <a:lnTo>
                  <a:pt x="13650" y="13650"/>
                </a:lnTo>
                <a:lnTo>
                  <a:pt x="10800" y="21600"/>
                </a:lnTo>
                <a:lnTo>
                  <a:pt x="7950" y="1365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32360" y="0"/>
            <a:ext cx="433440" cy="5554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28960 h 555480"/>
              <a:gd name="textAreaBottom" fmla="*/ 326520 h 55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0"/>
            <a:ext cx="8381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研读赏析，探究其写法。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9907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剧本在刻画人物形象方面有哪些独到之处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?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2565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Verdana"/>
              </a:rPr>
              <a:t>课文运用人物的语言、动作、神态描写以及环境描写，并将正面描写与侧面描写相结合，栩栩如生地刻画了少女玛丽亚热爱歌唱、热爱自然、心灵美好、活泼自由、纯真快乐的性格，使玛丽亚这位女主人公的形象跃然纸上 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Verdana"/>
              </a:rPr>
              <a:t>课堂小结 </a:t>
            </a:r>
            <a:br>
              <a:rPr sz="3000"/>
            </a:b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Verdana"/>
              </a:rPr>
              <a:t>《音乐之声》是电影史上一部经典的音乐故事片，这一节课我们集中欣赏了其画面美、形象美，音乐美。眼前似乎是萨尔茨堡那壮丽优美的景色、玛丽亚活泼轻快的身影，耳边似乎传来玛丽亚欢快的歌唱，那优美动人的旋律从心里流过，得到了至美的艺术享受。让我们诚挚地道一声：感谢玛丽亚，感谢作者勒曼</a:t>
            </a:r>
            <a:r>
              <a:rPr b="1" lang="en-US" sz="3000" spc="-1" strike="noStrike">
                <a:solidFill>
                  <a:srgbClr val="008000"/>
                </a:solidFill>
                <a:latin typeface="Verdana"/>
              </a:rPr>
              <a:t>。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0880" y="8254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你周围有像玛丽亚这种性格的人吗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注意观察，用一段话描写这个人。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304920"/>
            <a:ext cx="2438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试牛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6600"/>
                </a:solidFill>
                <a:latin typeface="Verdana"/>
                <a:ea typeface="幼圆"/>
              </a:rPr>
              <a:t>背景概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音乐之声</a:t>
            </a:r>
            <a:r>
              <a:rPr b="0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讲的是发生在</a:t>
            </a:r>
            <a:r>
              <a:rPr b="0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38</a:t>
            </a: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，奥地利的一个真实的故事：萨尔茨堡地方有个冯</a:t>
            </a:r>
            <a:r>
              <a:rPr b="0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特拉普上校，他和他的七个孩子以及原先是家庭教师的妻子，在纳粹德国吞并奥地利以后，组成了家庭合唱团，到处演唱奥地利的民歌和爱国歌曲。这部影片成为</a:t>
            </a:r>
            <a:r>
              <a:rPr b="0" lang="zh-CN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最经典的音乐片之一</a:t>
            </a: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广为流传的经典音乐有：</a:t>
            </a:r>
            <a:r>
              <a:rPr b="0" lang="en-US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《</a:t>
            </a:r>
            <a:r>
              <a:rPr b="0" lang="zh-CN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音乐之声</a:t>
            </a:r>
            <a:r>
              <a:rPr b="0" lang="en-US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《</a:t>
            </a:r>
            <a:r>
              <a:rPr b="0" lang="zh-CN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孤独的牧羊女</a:t>
            </a:r>
            <a:r>
              <a:rPr b="0" lang="en-US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《</a:t>
            </a:r>
            <a:r>
              <a:rPr b="0" lang="zh-CN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雪绒花</a:t>
            </a:r>
            <a:r>
              <a:rPr b="0" lang="en-US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《</a:t>
            </a:r>
            <a:r>
              <a:rPr b="0" lang="zh-CN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多来咪</a:t>
            </a:r>
            <a:r>
              <a:rPr b="0" lang="en-US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《</a:t>
            </a:r>
            <a:r>
              <a:rPr b="0" lang="zh-CN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晚安，再见 </a:t>
            </a:r>
            <a:r>
              <a:rPr b="0" lang="en-US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09480" y="457200"/>
            <a:ext cx="81536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影视剧本的特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2" action="ppaction://hlinksldjump"/>
              </a:rPr>
              <a:t>电影文学剧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3" action="ppaction://hlinksldjump"/>
              </a:rPr>
              <a:t>        专供拍摄影片而创作的剧本，是电影艺术的重要组成部分，也称电影文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4" action="ppaction://hlinksldjump"/>
              </a:rPr>
              <a:t>        电影文学剧本跟小说、戏剧一样需要塑造人物、交代情节，其容量也像戏剧一样受到时间的限制(摄制完成的电影一般放映两小时左右)。在电影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5" action="ppaction://hlinksldjump"/>
              </a:rPr>
              <a:t>剧本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6" action="ppaction://hlinksldjump"/>
              </a:rPr>
              <a:t>中，人物性格的刻画，场景背景的交代．情节的发展，一切都须化为画面，很少以叙述人的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宋体"/>
                <a:hlinkClick r:id="rId7" action="ppaction://hlinksldjump"/>
              </a:rPr>
              <a:t>“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8" action="ppaction://hlinksldjump"/>
              </a:rPr>
              <a:t>画外音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宋体"/>
                <a:hlinkClick r:id="rId9" action="ppaction://hlinksldjump"/>
              </a:rPr>
              <a:t>”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0" action="ppaction://hlinksldjump"/>
              </a:rPr>
              <a:t>(或字幕)表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762012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Verdana"/>
                <a:ea typeface="幼圆"/>
              </a:rPr>
              <a:t>初读课文，给生词注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鳞次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栉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比（     ）   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伫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立（       ）    山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    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众说纷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纭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      ）嬷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嬷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             ） 按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捺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    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峥嵘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                      ）   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涟漪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            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悔（        ） 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诚（       ）    远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眺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     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Verdana"/>
                <a:ea typeface="幼圆"/>
              </a:rPr>
              <a:t>解释词语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流连忘返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通宵达旦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遐思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肃穆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21337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zh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zh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86600" y="1523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l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yú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19720" y="213372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mó 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1520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n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2514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zhēng ró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2590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lián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3048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chà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qi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3200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ti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14600" y="3940200"/>
            <a:ext cx="42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宋体"/>
              </a:rPr>
              <a:t>留恋不止，舍不得离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4495680"/>
            <a:ext cx="42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宋体"/>
              </a:rPr>
              <a:t>从天黑到天亮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4952880"/>
            <a:ext cx="42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宋体"/>
              </a:rPr>
              <a:t>悠远的思索或想象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5486400"/>
            <a:ext cx="42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宋体"/>
              </a:rPr>
              <a:t>严肃安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0"/>
            <a:ext cx="403848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28600"/>
            <a:ext cx="37339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行楷"/>
              </a:rPr>
              <a:t>漫步字词百花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66"/>
                </a:solidFill>
                <a:latin typeface="Arial"/>
                <a:ea typeface="华文彩云"/>
              </a:rPr>
              <a:t>再读课文</a:t>
            </a:r>
            <a:endParaRPr b="1" lang="en-US" sz="4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思考：课文可分为几个场景？每个场景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写了什么内容</a:t>
            </a:r>
            <a:r>
              <a:rPr b="1" lang="zh-CN" sz="2800" spc="-1" strike="noStrike">
                <a:solidFill>
                  <a:srgbClr val="666699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609480"/>
            <a:ext cx="3581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ff66"/>
                </a:solidFill>
                <a:latin typeface="Arial"/>
                <a:ea typeface="华文行楷"/>
              </a:rPr>
              <a:t>对话作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00">
    <p:comb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838080" y="15228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黑体"/>
              </a:rPr>
              <a:t>结构分析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5638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细黑"/>
              </a:rPr>
              <a:t>全文共有两个场景，分别是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细黑"/>
              </a:rPr>
              <a:t>第一场景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细黑"/>
              </a:rPr>
              <a:t>第二场景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16765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开头至“急速地跑下山来”）在修道院外，玛丽亚忘情山水，纵情歌唱。       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画面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335268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“古老的修道院”至结尾）在修道院内，众嬷嬷对玛丽亚说长道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0">
    <p:cover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786120" y="533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阅读第一个场景的内容，回答下列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09960" y="1066680"/>
            <a:ext cx="505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开头属于什么描写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怎样描写阿尔卑斯山的风光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这样写起什么作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43560" y="2819520"/>
            <a:ext cx="40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答：环境描写，它全方位由远而近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由高而低地描写主人公活动的背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衬托出玛丽亚的自由快乐的个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4280" y="4343400"/>
            <a:ext cx="46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流连往返”是什么意思？表明了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5960" y="563868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答：留恋得忘记返回。表现了主人公对大自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的无比热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68240" y="270000"/>
            <a:ext cx="355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读玛丽亚歌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音乐之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思考：此段用了哪些修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表现了玛丽亚什么个性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07760" y="1981080"/>
            <a:ext cx="76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答：前三句后三句是排比，第五、七、九句是比喻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第十句是夸张。表现了她对音乐、自然的热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60920" y="4800600"/>
            <a:ext cx="571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这个场景的最后一句“忽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跑下山来”运用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什么人物描写？表现了玛丽亚怎样的性格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33360" y="601992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答：动作描写。活泼自由。</a:t>
            </a:r>
            <a:r>
              <a:rPr b="1" lang="zh-CN" sz="3200" spc="-1" strike="noStrike">
                <a:solidFill>
                  <a:srgbClr val="00ff99"/>
                </a:solidFill>
                <a:latin typeface="Arial"/>
                <a:ea typeface="华文行楷"/>
              </a:rPr>
              <a:t>形象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14400" y="533520"/>
            <a:ext cx="54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阅读第二个场景，选点品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1752480"/>
            <a:ext cx="82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用“不动声色”来形容院长，突出她性格中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什么特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190960" y="28954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答：老成持重，城府很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6960" y="3505320"/>
            <a:ext cx="844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你是如何理解“反正我看黑羊身上的毛也一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暖和”这句话的言外之意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55680" y="49528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答：用比喻形象地说明玛丽亚也可以做修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13:51:31Z</dcterms:created>
  <dc:creator>清风明月</dc:creator>
  <dc:description/>
  <cp:keywords>音乐之声</cp:keywords>
  <dc:language>en-US</dc:language>
  <cp:lastModifiedBy>User</cp:lastModifiedBy>
  <dcterms:modified xsi:type="dcterms:W3CDTF">2015-04-14T06:19:19Z</dcterms:modified>
  <cp:revision>106</cp:revision>
  <dc:subject>语文课件</dc:subject>
  <dc:title>音乐之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  <property fmtid="{D5CDD505-2E9C-101B-9397-08002B2CF9AE}" pid="3" name="Version">
    <vt:r8>1</vt:r8>
  </property>
</Properties>
</file>